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8.gif" ContentType="image/gif"/>
  <Override PartName="/ppt/media/image13.jpeg" ContentType="image/jpeg"/>
  <Override PartName="/ppt/media/image30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16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78BD-EB1A-4E9F-9456-A53D9131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CD61-CF63-4420-8311-0B7ECAE4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34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8A74-32FA-44A7-A514-3553B0D5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87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636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87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636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F7F5-6ACB-48F8-8368-D2B8BCD9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9F4A-9CE9-451D-B66C-C505CE0D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7F1A-2B37-4FB6-9F25-05EE32D8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B689-2505-42CC-B25E-72410816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8132-0C72-4978-BFCC-DBD9AC58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2DB5-44A1-40A4-85C2-E21678BC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BD63-8AC5-4680-9578-3449ACB9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072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F055-92FC-461D-A2D0-A7FC8E05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128A-D17B-4BB4-A8EB-508B73AD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734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6408-464B-4A37-9EBE-AFA23812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F507-884C-4A66-9629-C5D91D23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9072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1D17-948E-4182-81BC-D210E35E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734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A836-1367-4F60-9620-54FCD912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187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4636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907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187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4636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13C0-4EA5-4CC1-B18D-977E3F4E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9AF8-DA55-4961-A959-200B8E8C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6238-50C4-4937-9F3A-53B23000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FDC0-27A4-415A-B21F-426139B2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207-688D-492F-B5B8-316E3429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282C-390F-4702-B6F3-9EB4BC61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34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55B2-89C4-4EB8-893F-0E5D4F79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300-660A-4676-AE6D-5693A9C0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22347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34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FB14-A110-4457-B4DD-CC169761C4C1}" type="datetime">
              <a:rPr b="0" lang="en-US" sz="1400" spc="-1" strike="noStrike">
                <a:solidFill>
                  <a:srgbClr val="223471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347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5A62-3D7A-4224-A151-99470AE10BC9}" type="slidenum">
              <a:rPr b="0" lang="en-US" sz="1400" spc="-1" strike="noStrike">
                <a:solidFill>
                  <a:srgbClr val="22347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02888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22347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DAC5-1AC8-4554-9D1B-BD845273546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5BBF-EA6E-457D-BFEA-BB6A0B9ED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omenius.susqu.edu/bi/201/02/julian/bioproducts/mitosis/mitosis1metaphaseACTIN.jpg&amp;imgrefurl=http://comenius.susqu.edu/bi/201/02/julian/bioproducts/metaphase.htm&amp;h=480&amp;w=640&amp;sz=75&amp;tbnid=Pa3YWArz394J:&amp;tbnh=101&amp;tbnw=135&amp;hl=en&amp;start=118&amp;prev=/images%3Fq%3Dmicrofilaments%26start%3D100%26svnum%3D10%26hl%3Den%26lr%3D%26sa%3DN" TargetMode="External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5257800"/>
            <a:ext cx="6933960" cy="66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Chapter 7: A View of the Cell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819520" y="6019560"/>
            <a:ext cx="58608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Cell Structure and Function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85" name="Picture 5" descr="http://photos1.blogger.com/img/178/4205/640/cell_structure.jpg"/>
          <p:cNvPicPr/>
          <p:nvPr/>
        </p:nvPicPr>
        <p:blipFill>
          <a:blip r:embed="rId1"/>
          <a:stretch/>
        </p:blipFill>
        <p:spPr>
          <a:xfrm>
            <a:off x="781200" y="225360"/>
            <a:ext cx="4181400" cy="3133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http://www.ualr.edu/~botany/plantcelldiagram.jpg"/>
          <p:cNvPicPr/>
          <p:nvPr/>
        </p:nvPicPr>
        <p:blipFill>
          <a:blip r:embed="rId2"/>
          <a:stretch/>
        </p:blipFill>
        <p:spPr>
          <a:xfrm>
            <a:off x="5022720" y="1670040"/>
            <a:ext cx="3902040" cy="3608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Phospholipid Bilayer</a:t>
            </a: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- Two layers of phospholipids</a:t>
            </a:r>
            <a:br>
              <a:rPr sz="2800"/>
            </a:b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-Phosphate head (hydrophilic)</a:t>
            </a:r>
            <a:br>
              <a:rPr sz="2800"/>
            </a:b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-Two fatty acid tails (hydrophobic)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Externally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, the cell (plasma) membrane provides protection and support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Regulates what enters and leaves the cell (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lective permeability</a:t>
            </a: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Maintain internal homeostatic conditions (separates external and internal environments)</a:t>
            </a:r>
            <a:br>
              <a:rPr sz="2000"/>
            </a:b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Internally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, membranes subdivide the cytoplasm into specific zones in which substances are synthesized, processed, stockpiled, or degraded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http://plantphys.info/principles/images/phospholipid.gif"/>
          <p:cNvPicPr/>
          <p:nvPr/>
        </p:nvPicPr>
        <p:blipFill>
          <a:blip r:embed="rId1"/>
          <a:stretch/>
        </p:blipFill>
        <p:spPr>
          <a:xfrm>
            <a:off x="1143000" y="228600"/>
            <a:ext cx="6103800" cy="4537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http://www.fz-juelich.de/ibi/ibi-1/datapool/page/28/Figure1-500.jpg"/>
          <p:cNvPicPr/>
          <p:nvPr/>
        </p:nvPicPr>
        <p:blipFill>
          <a:blip r:embed="rId2"/>
          <a:stretch/>
        </p:blipFill>
        <p:spPr>
          <a:xfrm>
            <a:off x="4952880" y="2971800"/>
            <a:ext cx="3505320" cy="2762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luid Mosaic Model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Fluid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- moves in a fluid, wave-like motion (flexibility and movement of phospholipids)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Mosaic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- lipids, proteins, and carbohydrates 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12" name="Picture 5" descr="http://student.biology.arizona.edu/honors2002/group02/images/fluid_mosaic_model.jpg"/>
          <p:cNvPicPr/>
          <p:nvPr/>
        </p:nvPicPr>
        <p:blipFill>
          <a:blip r:embed="rId1"/>
          <a:stretch/>
        </p:blipFill>
        <p:spPr>
          <a:xfrm>
            <a:off x="1447920" y="3048120"/>
            <a:ext cx="6149880" cy="3485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324840" cy="81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3471"/>
                </a:solidFill>
                <a:latin typeface="Times New Roman"/>
              </a:rPr>
              <a:t>Structures of the Eukaryotic Cell</a:t>
            </a:r>
            <a:endParaRPr b="0" lang="en-US" sz="36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14" name="Picture 5" descr="http://www.science.org.au/sats2004/images/kobe6.jpg"/>
          <p:cNvPicPr/>
          <p:nvPr/>
        </p:nvPicPr>
        <p:blipFill>
          <a:blip r:embed="rId1"/>
          <a:stretch/>
        </p:blipFill>
        <p:spPr>
          <a:xfrm>
            <a:off x="1295280" y="121932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Eukaryotic DNA resides in the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Nucleus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- “</a:t>
            </a:r>
            <a:r>
              <a:rPr b="0" i="1" lang="en-US" sz="2400" spc="-1" strike="noStrike">
                <a:solidFill>
                  <a:srgbClr val="223471"/>
                </a:solidFill>
                <a:latin typeface="Times New Roman"/>
              </a:rPr>
              <a:t>the control center of the cell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;” houses the cell’s hereditary information (DNA), which codes for protein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he nucleus physically separates the cell’s DNA molecules apart from the intricate metabolic machinery of the cytoplasm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he localization of DNA makes it easier to copy genetic instructions before the time comes for a cell to divide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he membranous boundary of the nucleus helps control the exchange of substances and signals between the nucleus and the cytoplasm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72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Times New Roman"/>
              </a:rPr>
              <a:t>Nuclear Envelope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- pore-riddled double-membrane system that selectively controls the passage of various substances into and out of the nucleu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Times New Roman"/>
              </a:rPr>
              <a:t>Nuclear Pores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- small openings in the nuclear envelope that permits materials such as RNA to enter and exit the nucleu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Times New Roman"/>
              </a:rPr>
              <a:t>Nucleoplasm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- fluid interior portion of the nucleu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Times New Roman"/>
              </a:rPr>
              <a:t>Nucleolus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- small, dark, dense region in the nucleu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Dense cluster of RNA and proteins that will be assembled into subunits of ribosomes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Times New Roman"/>
              </a:rPr>
              <a:t>Chromosome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- one DNA molecule and many proteins that are intimately associated with it; coiled or condensed DNA; visible only during cell division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Times New Roman"/>
              </a:rPr>
              <a:t>Chromatin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- total collection of all DNA molecules and their associated proteins in the nucleus; uncoiled strands of DNA scattered throughout the nucleus (approx. 5 feet)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http://www.ualr.edu/~botany/nucleus.jpeg"/>
          <p:cNvPicPr/>
          <p:nvPr/>
        </p:nvPicPr>
        <p:blipFill>
          <a:blip r:embed="rId1"/>
          <a:stretch/>
        </p:blipFill>
        <p:spPr>
          <a:xfrm>
            <a:off x="914400" y="152280"/>
            <a:ext cx="5867280" cy="4400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http://www.dnai.org/images/temp/chromosome.jpg"/>
          <p:cNvPicPr/>
          <p:nvPr/>
        </p:nvPicPr>
        <p:blipFill>
          <a:blip r:embed="rId2"/>
          <a:stretch/>
        </p:blipFill>
        <p:spPr>
          <a:xfrm>
            <a:off x="6629400" y="3733920"/>
            <a:ext cx="161136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http://hordeum.msu.montana.edu/Bio102/Meiosis/SCMSlecture_files/chromatin.jpg"/>
          <p:cNvPicPr/>
          <p:nvPr/>
        </p:nvPicPr>
        <p:blipFill>
          <a:blip r:embed="rId3"/>
          <a:srcRect l="5559" t="0" r="31488" b="30772"/>
          <a:stretch/>
        </p:blipFill>
        <p:spPr>
          <a:xfrm>
            <a:off x="4191120" y="4191120"/>
            <a:ext cx="209556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Cytoplasmic Organelles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Times New Roman"/>
              </a:rPr>
              <a:t>Cytoplasm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- fluid-filled region outside the nucleus that contains organelles 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00"/>
                </a:solidFill>
                <a:uFillTx/>
                <a:latin typeface="Times New Roman"/>
              </a:rPr>
              <a:t>Cytosol</a:t>
            </a: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- fluid portion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00"/>
                </a:solidFill>
                <a:uFillTx/>
                <a:latin typeface="Times New Roman"/>
              </a:rPr>
              <a:t>Organelles</a:t>
            </a: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- internal, membrane-bound compartments that serve one or more specialized functions inside the cells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Compartmentalization allows a large number of activities to proceed simultaneously in very limited space</a:t>
            </a:r>
            <a:br>
              <a:rPr sz="2400"/>
            </a:b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Compartmentalization also allows reactions that are compatible and interconnected to proceed at different time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Ribosomes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Small structures made of RNA and protein where polypeptide chains are assembled (synthesized)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Free Ribosomes</a:t>
            </a: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- not attached to endoplasmic reticulum; Assemble polypeptide chains that primarily remain in the cell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Attached Ribosomes</a:t>
            </a: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- attached to rough endoplasmic reticulum; involved primarily in modifying polypeptide chains that will be secreted out of the cell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25" name="Picture 5" descr="http://www.sp.uconn.edu/~bi107vc/images/cell/ribosome.gif"/>
          <p:cNvPicPr/>
          <p:nvPr/>
        </p:nvPicPr>
        <p:blipFill>
          <a:blip r:embed="rId1"/>
          <a:stretch/>
        </p:blipFill>
        <p:spPr>
          <a:xfrm>
            <a:off x="5029200" y="4572000"/>
            <a:ext cx="3581280" cy="2082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http://sps.k12.ar.us/massengale/images/roughER.gif"/>
          <p:cNvPicPr/>
          <p:nvPr/>
        </p:nvPicPr>
        <p:blipFill>
          <a:blip r:embed="rId2"/>
          <a:stretch/>
        </p:blipFill>
        <p:spPr>
          <a:xfrm>
            <a:off x="990720" y="0"/>
            <a:ext cx="2209680" cy="2030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Endoplasmic Reticulum (ER)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System of tunnels and compartments continuous with the nuclear envelope; modify polypeptide chains on their path to becoming proteins</a:t>
            </a:r>
            <a:br>
              <a:rPr sz="2000"/>
            </a:b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Rough ER</a:t>
            </a: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- organized as stacked, flattened compartments that have many ribosomes attached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22347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Modifies polypeptide chains that will help shape them into the final protein form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22347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Involved primarily in modifying polypeptide chains that will be secreted out of the cell via transport vesicles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Smooth ER</a:t>
            </a: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- free ribosomes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22347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In many cells, smooth ER is the main site of lipid synthesis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22347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Also involved in protein modification 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Cell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 is the smallest entity that retains all the distinctive properties of life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A cell either can survive on its own or has the potential to do so 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Its structure is highly organized, and it engages in metabolism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A cell senses and responds to changes in the environment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It has the potential to reproduce, based on inherited instructions in its DNA</a:t>
            </a:r>
            <a:br>
              <a:rPr sz="2400"/>
            </a:b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Unicellular Organisms</a:t>
            </a: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- living organisms comprised of only a single cell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Multicellular Organisms</a:t>
            </a: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- living organisms comprised of many complex cells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27" descr="http://www.blc.arizona.edu/courses/181summer/graphics/graphics%20lect5/Life7e-Fig-04-11-0%20endoplasmic%20reticulum.jpg"/>
          <p:cNvPicPr/>
          <p:nvPr/>
        </p:nvPicPr>
        <p:blipFill>
          <a:blip r:embed="rId1"/>
          <a:stretch/>
        </p:blipFill>
        <p:spPr>
          <a:xfrm>
            <a:off x="297000" y="223920"/>
            <a:ext cx="8550000" cy="6411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Golgi Body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Further modifies polypeptide chains into mature proteins; sorting and shipping proteins and lipid for secretion or for use inside the cell 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32" name="Picture 5" descr="http://personal.tmlp.com/Jimr57/textbook/chapter3/movies/cyto4.gif"/>
          <p:cNvPicPr/>
          <p:nvPr/>
        </p:nvPicPr>
        <p:blipFill>
          <a:blip r:embed="rId1"/>
          <a:stretch/>
        </p:blipFill>
        <p:spPr>
          <a:xfrm>
            <a:off x="556272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http://www.visualsunlimited.com/images/watermarked/144/14486.jpg"/>
          <p:cNvPicPr/>
          <p:nvPr/>
        </p:nvPicPr>
        <p:blipFill>
          <a:blip r:embed="rId2"/>
          <a:stretch/>
        </p:blipFill>
        <p:spPr>
          <a:xfrm>
            <a:off x="1371600" y="3886200"/>
            <a:ext cx="4000680" cy="2664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Various Vesicles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Small portions of ER or golgi body that pinch off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Involved in transporting or storing variety of substances; digesting substances and structures within the cell; movement of materials into and out of the cel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36" name="Picture 5" descr="http://www.occc.cc.or.us/webpages/facultypages/mochon-collura/BI102/lectures/More%20cell%20components_files/slide0001_image002.jpg"/>
          <p:cNvPicPr/>
          <p:nvPr/>
        </p:nvPicPr>
        <p:blipFill>
          <a:blip r:embed="rId1"/>
          <a:stretch/>
        </p:blipFill>
        <p:spPr>
          <a:xfrm>
            <a:off x="5562720" y="4343400"/>
            <a:ext cx="2639880" cy="2092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Lysosomes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Digestive organelle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Contain strong enzyme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Digest food, disease causing substances, and cell itself; clean-up cell 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39" name="Picture 5" descr="http://micro.magnet.fsu.edu/cells/lysosomes/images/lysosomesfigure1.jpg"/>
          <p:cNvPicPr/>
          <p:nvPr/>
        </p:nvPicPr>
        <p:blipFill>
          <a:blip r:embed="rId1"/>
          <a:stretch/>
        </p:blipFill>
        <p:spPr>
          <a:xfrm>
            <a:off x="3962520" y="3962520"/>
            <a:ext cx="4525920" cy="2732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Mitochondria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Power House of the Cell”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Produce energy (ATP) for cells from food energy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Site of Aerobic Respiration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Contains own DNA- believed to be ancient ancestors of prokaryotes; in humans, all or nearly all our mitochondria come from the cytoplasm of the ovum or egg (maternally inherited)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42" name="Picture 5" descr="http://io.uwinnipeg.ca/~simmons/1115/cm1503/Image110.gif"/>
          <p:cNvPicPr/>
          <p:nvPr/>
        </p:nvPicPr>
        <p:blipFill>
          <a:blip r:embed="rId1"/>
          <a:stretch/>
        </p:blipFill>
        <p:spPr>
          <a:xfrm>
            <a:off x="4800600" y="3957480"/>
            <a:ext cx="3733920" cy="2900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Plant Cell vs. Animal Cell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Plant Cell: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Cell Wall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Chloroplasts (contain chlorophyll)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Vacuole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No lysosomes??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528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Animal Cell: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No cell wall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No chloroplasts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No vacuole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Lysosomes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http://www.science.org.au/sats2004/images/kob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Cell Wall (plants, algae, fungi)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Outside plasma membrane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Provides protection and support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Maintains turgor pressure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Made of cellulose and other fiber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49" name="Picture 5" descr="http://biology.unm.edu/ccouncil/Biology_124/Images/cellwall.jpeg"/>
          <p:cNvPicPr/>
          <p:nvPr/>
        </p:nvPicPr>
        <p:blipFill>
          <a:blip r:embed="rId1"/>
          <a:stretch/>
        </p:blipFill>
        <p:spPr>
          <a:xfrm>
            <a:off x="5943600" y="1676520"/>
            <a:ext cx="2378160" cy="3178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http://www.ucmp.berkeley.edu/plants/cells/elodeacell.jpg"/>
          <p:cNvPicPr/>
          <p:nvPr/>
        </p:nvPicPr>
        <p:blipFill>
          <a:blip r:embed="rId2"/>
          <a:stretch/>
        </p:blipFill>
        <p:spPr>
          <a:xfrm>
            <a:off x="4495680" y="4343400"/>
            <a:ext cx="1852560" cy="2289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Vacuole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Saclike structure used to store water, salt, proteins, and carbohydrate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Provides “turgor pressure” to support plant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53" name="Picture 5" descr="http://www.science.siu.edu/plant-biology/PLB117/JPEG%20files/07D-20Campbell.jpg"/>
          <p:cNvPicPr/>
          <p:nvPr/>
        </p:nvPicPr>
        <p:blipFill>
          <a:blip r:embed="rId1"/>
          <a:stretch/>
        </p:blipFill>
        <p:spPr>
          <a:xfrm>
            <a:off x="4724280" y="2819520"/>
            <a:ext cx="3843360" cy="3801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Chloroplasts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Contain chlorophyl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Site of </a:t>
            </a:r>
            <a:r>
              <a:rPr b="1" lang="en-US" sz="2400" spc="-1" strike="noStrike">
                <a:solidFill>
                  <a:srgbClr val="223471"/>
                </a:solidFill>
                <a:latin typeface="Times New Roman"/>
              </a:rPr>
              <a:t>photosynthesis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- using sunlight to produce glucose (energy)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Contains its own DNA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56" name="Picture 5" descr="http://euclid.dne.wvfibernet.net/~jvg/Bio208/ConvPix/Chloroplast.gif"/>
          <p:cNvPicPr/>
          <p:nvPr/>
        </p:nvPicPr>
        <p:blipFill>
          <a:blip r:embed="rId1"/>
          <a:stretch/>
        </p:blipFill>
        <p:spPr>
          <a:xfrm>
            <a:off x="4952880" y="3962520"/>
            <a:ext cx="356580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The Cell Theory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2347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All living organisms are composed of one or more cell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22347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The cell is the smallest unit that still retains the characteristics of life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22347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Each new cell arises from a preexisting cell (NO spontaneous generation)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3471"/>
                </a:solidFill>
                <a:latin typeface="Times New Roman"/>
              </a:rPr>
              <a:t>Cytoskeleton</a:t>
            </a:r>
            <a:endParaRPr b="0" lang="en-US" sz="36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219320" y="4076280"/>
            <a:ext cx="723888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Skeleton of a Cell”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Provides structure and support and aids in cell movement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Made of protein filaments and fiber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Microtubules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Thick hollow tubes of protein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Skeleton framework of cell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Maintain cell shape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Involved in the movement of organelle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Role in cell division and the movement of chromosomes (centrioles) 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i.e. Cilia and Flagella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61" name="Picture 5" descr="http://www.nyu.edu/classes/ytchang/book/n003/microtubule.gif"/>
          <p:cNvPicPr/>
          <p:nvPr/>
        </p:nvPicPr>
        <p:blipFill>
          <a:blip r:embed="rId1"/>
          <a:stretch/>
        </p:blipFill>
        <p:spPr>
          <a:xfrm>
            <a:off x="5943600" y="8380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http://ic.ucsc.edu/~wxcheng/envs161/Lecture8/ciliate.jpg"/>
          <p:cNvPicPr/>
          <p:nvPr/>
        </p:nvPicPr>
        <p:blipFill>
          <a:blip r:embed="rId2"/>
          <a:stretch/>
        </p:blipFill>
        <p:spPr>
          <a:xfrm>
            <a:off x="4419720" y="4800600"/>
            <a:ext cx="2133360" cy="193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http://library.thinkquest.org/C004543/images/types_text1_3.jpg"/>
          <p:cNvPicPr/>
          <p:nvPr/>
        </p:nvPicPr>
        <p:blipFill>
          <a:blip r:embed="rId3"/>
          <a:stretch/>
        </p:blipFill>
        <p:spPr>
          <a:xfrm>
            <a:off x="1371600" y="380880"/>
            <a:ext cx="1914480" cy="1414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http://micro.magnet.fsu.edu/cells/centrioles/images/centriolesfigure1.jpg"/>
          <p:cNvPicPr/>
          <p:nvPr/>
        </p:nvPicPr>
        <p:blipFill>
          <a:blip r:embed="rId4"/>
          <a:stretch/>
        </p:blipFill>
        <p:spPr>
          <a:xfrm>
            <a:off x="6781680" y="4952880"/>
            <a:ext cx="195264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Microfilaments and Intermediate Filaments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Long, thin (solid) fiber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Support and movement of cell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Help move cell membranes (change shape)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67" name="Picture 5" descr="http://images.google.com/images?q=tbn:Pa3YWArz394J:comenius.susqu.edu/bi/201/02/julian/bioproducts/mitosis/mitosis1metaphaseACT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4114800"/>
            <a:ext cx="2286000" cy="1709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http://www.beyondbooks.com/lif71/images/00016767.jpg"/>
          <p:cNvPicPr/>
          <p:nvPr/>
        </p:nvPicPr>
        <p:blipFill>
          <a:blip r:embed="rId3"/>
          <a:stretch/>
        </p:blipFill>
        <p:spPr>
          <a:xfrm>
            <a:off x="1066680" y="3886200"/>
            <a:ext cx="4000680" cy="2629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3471"/>
                </a:solidFill>
                <a:latin typeface="Times New Roman"/>
              </a:rPr>
              <a:t>Structural Organization of Cells</a:t>
            </a:r>
            <a:endParaRPr b="0" lang="en-US" sz="36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4076280"/>
            <a:ext cx="746784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Cells differ enormously in size, shape, and activities, but all cells start out life with </a:t>
            </a:r>
            <a:r>
              <a:rPr b="1" i="1" lang="en-US" sz="2400" spc="-1" strike="noStrike" u="sng">
                <a:solidFill>
                  <a:srgbClr val="990000"/>
                </a:solidFill>
                <a:uFillTx/>
                <a:latin typeface="Times New Roman"/>
              </a:rPr>
              <a:t>three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 primary components . . .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1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Plasma Membrane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This thin, outermost membrane maintains the cell as a distinct entity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It allows metabolic events to proceed apart from random events in the environment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A plasma membrane does NOT isolate the cell interior; substances and signals continually move across it, but in highly regulated/ controlled ways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95" name="Picture 7" descr="http://www.smuhsd.k12.ca.us/bhs/science-dept/vaughn/mvaughn/Student%20Projects/Jennifer%20Lee%20&amp;%20Jisoo%20Membrane/cem3s1_1.jpg"/>
          <p:cNvPicPr/>
          <p:nvPr/>
        </p:nvPicPr>
        <p:blipFill>
          <a:blip r:embed="rId1"/>
          <a:stretch/>
        </p:blipFill>
        <p:spPr>
          <a:xfrm>
            <a:off x="4800600" y="3125880"/>
            <a:ext cx="3962520" cy="2271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2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DNA-containing region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DNA occupies part of the cell interior, along with molecules that can copy or read its hereditary instructions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Cells are divided into two separate categories based on DNA-containing region: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Prokaryotic Cells (Prokaryotes)-</a:t>
            </a: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 small, simple cells that lack a nucleus and membrane-bound cytoplasmic organelles (i.e. bacteria are the only prokaryotes)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22347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No separation between DNA and Cytoplasm (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Nucleoid Region</a:t>
            </a: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22347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3471"/>
                </a:solidFill>
                <a:latin typeface="Times New Roman"/>
              </a:rPr>
              <a:t>Still have cell membrane, cell wall, cytoplasm, and ribosomes</a:t>
            </a:r>
            <a:endParaRPr b="0" lang="en-US" sz="18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98" name="Picture 6" descr="http://www.singleton-associates.org/gifs/cell.jpg"/>
          <p:cNvPicPr/>
          <p:nvPr/>
        </p:nvPicPr>
        <p:blipFill>
          <a:blip r:embed="rId1"/>
          <a:srcRect l="0" t="3705" r="1240" b="0"/>
          <a:stretch/>
        </p:blipFill>
        <p:spPr>
          <a:xfrm>
            <a:off x="6248520" y="4267080"/>
            <a:ext cx="211284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90720" y="228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Eukaryotic Cells (Eukaryotes)-</a:t>
            </a: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 complex cells with nuclei (nucleus)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22347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Nucleus houses the DNA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22347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Have membrane-bound cytoplasmic organelles and ribosomes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00" name="Picture 5" descr="http://micro.magnet.fsu.edu/cells/animals/images/animalcell.jpg"/>
          <p:cNvPicPr/>
          <p:nvPr/>
        </p:nvPicPr>
        <p:blipFill>
          <a:blip r:embed="rId1"/>
          <a:stretch/>
        </p:blipFill>
        <p:spPr>
          <a:xfrm>
            <a:off x="2286000" y="1905120"/>
            <a:ext cx="5372280" cy="4593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471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Cytoplasm</a:t>
            </a:r>
            <a:endParaRPr b="0" lang="en-US" sz="28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347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471"/>
                </a:solidFill>
                <a:latin typeface="Times New Roman"/>
              </a:rPr>
              <a:t>The cytoplasm is everything in the cell interior EXCEPT for the region of DNA</a:t>
            </a:r>
            <a:endParaRPr b="0" lang="en-US" sz="2400" spc="-1" strike="noStrike">
              <a:solidFill>
                <a:srgbClr val="223471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22347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It includes a fluid portion (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Cytosol</a:t>
            </a: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), ribosomes (two-unit structures upon which proteins are synthesized), and other cellular components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</p:txBody>
      </p:sp>
      <p:pic>
        <p:nvPicPr>
          <p:cNvPr id="103" name="Picture 5" descr="http://homepage.mac.com/joebergeron/webpageimages/cell.jpg"/>
          <p:cNvPicPr/>
          <p:nvPr/>
        </p:nvPicPr>
        <p:blipFill>
          <a:blip r:embed="rId1"/>
          <a:srcRect l="4659" t="9581" r="5691" b="0"/>
          <a:stretch/>
        </p:blipFill>
        <p:spPr>
          <a:xfrm>
            <a:off x="4114800" y="3048120"/>
            <a:ext cx="3809880" cy="3332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3471"/>
                </a:solidFill>
                <a:latin typeface="Times New Roman"/>
              </a:rPr>
              <a:t>The Lipid Bilayer of </a:t>
            </a:r>
            <a:br>
              <a:rPr sz="3600"/>
            </a:br>
            <a:r>
              <a:rPr b="0" lang="en-US" sz="3600" spc="-1" strike="noStrike">
                <a:solidFill>
                  <a:srgbClr val="223471"/>
                </a:solidFill>
                <a:latin typeface="Times New Roman"/>
              </a:rPr>
              <a:t>Cell Membranes</a:t>
            </a:r>
            <a:endParaRPr b="0" lang="en-US" sz="3600" spc="-1" strike="noStrike">
              <a:solidFill>
                <a:srgbClr val="22347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8960" y="4076280"/>
            <a:ext cx="739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All cell membranes have the same structural framework: a highly selective, double-layer of phospholipids embedded with a variety of proteins and cholesterol</a:t>
            </a:r>
            <a:r>
              <a:rPr b="0" lang="en-US" sz="2000" spc="-1" strike="noStrike">
                <a:solidFill>
                  <a:srgbClr val="22347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23471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19:30:49Z</dcterms:created>
  <dc:creator>Sonia Coleman</dc:creator>
  <dc:description/>
  <dc:language>en-US</dc:language>
  <cp:lastModifiedBy>cassano</cp:lastModifiedBy>
  <dcterms:modified xsi:type="dcterms:W3CDTF">2013-12-12T15:46:38Z</dcterms:modified>
  <cp:revision>41</cp:revision>
  <dc:subject/>
  <dc:title>Title</dc:title>
</cp:coreProperties>
</file>